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6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7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8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C36C-8AA7-43AD-989E-16B2D04A9A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68F3-96D0-43B8-B8CD-7902AD9C2B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ABDE8-62FA-4300-B8B7-4165DD24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1F5A6-6A91-46A2-A701-03DAB804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B4B9C-3BD5-40B6-8758-A66D2906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2F0C7-125E-46FB-A136-C6762F86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BF11-945C-486C-875B-7A61F0C9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93FA-9350-4E56-8246-B64C5412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557D-6E50-4E16-A3E1-95539EF0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0C4D-48A3-439C-BA47-279A10AB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00C5-62C9-47CC-8844-C0928165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6B4C-7F52-4873-ADDE-006C84E3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7F12-9AC3-4900-ABC6-B9052F88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E83E3-E1B3-41CC-B609-764D666A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E1A8-A00F-4F04-994B-04EC61AA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8B8E-9C1D-4E01-8CEC-3B544959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497A-A312-4ED2-8F39-3AA93209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A288-1979-4262-A82F-BBB3A389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51D9-6102-4A5C-ACB3-2A790444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23F8B-3DBD-4713-A212-72635F26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3DB97-1578-4A77-B49A-B1D61509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ED548-794A-4C33-9273-4EDBA169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B12C6-E0DB-436E-8EC6-5FC775C7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4A70D-B297-4B4A-B079-68497D4C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42106-8C98-4BAC-8450-44ED3A48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C25C7-AFFA-499A-82C9-5F3F82ED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6A2F7-04A1-455E-ABF5-E658CBDC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BB0EC-2068-48A1-8F39-6B666545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D96C7C-E949-4CBB-8B1F-D3F596AD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7EE71-CBD6-4850-BD09-2192252D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58169-DCE0-4D99-95E9-6A97773A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567E9-F8A7-4789-B751-7BBF092B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846A1-EB0C-4DEB-8628-33263B8A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56391-0957-4EDA-903F-2618FFC3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FAF83-FB4B-4892-8E74-095FCC50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2D0E4-8D08-47B5-B6DA-0AD725EA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DA402-F817-411F-8D10-6390BBD3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1506A-1331-49DC-802B-AC8130DF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6C906-E9B8-45C9-9D77-E8C01767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645DD-3F33-4FAA-A4AD-E1F887B5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48317-E53E-4353-BC89-04116B22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F8080-F998-49ED-AC2B-BB43A88C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BC1D0-C642-4B5B-85D6-F7796AD9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3E305-7746-4CA0-A8CB-E019C367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24399-2897-4E3B-9499-90BC4AFA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1F42D-A134-49B9-9502-12046FBF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5C89-6FF3-48D6-9F0B-944E6DEE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E93EE-1E87-4ED6-AB1C-C569E2D9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0C987-4FA2-4836-8583-77C3A365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35187-E034-497F-B5E8-3E8350DE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9FD6E-2AA5-4336-B16B-D28F3E60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5289E-85FD-4367-9265-CE17217B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7EE53-16C4-473E-BCCC-31464522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685D5-87A4-4697-970C-758E4F44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11EC4-8C62-453C-9679-3CF0D2DA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918E7-8813-4D09-B19F-4204C199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A79F2-989A-43FC-9CDF-C4084B64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C789A-0F18-4948-A1D4-CBC80CCC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2CFDD-21B3-4AA5-B99F-BF82FC7B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80E49-D354-41BE-B8E4-E672FA46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7BBAD-EC5B-4A81-8CC4-705E97DD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EA0C6-0975-4AA2-BEDA-ABEF3F56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F06D-0B61-4FCF-A33E-24A32AF9CF8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CFF8-2F12-425B-8A9D-7E5B4C9ADB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0119-545A-43E9-838F-525AE03924F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4D04-70EB-4F5A-BD1E-5C91EC9F806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27F4-E910-4430-9199-77CB109A6F3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  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О порядке учета и контроля  индивидуальных доз облучени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3"/>
          <p:cNvSpPr/>
          <p:nvPr/>
        </p:nvSpPr>
        <p:spPr>
          <a:xfrm>
            <a:off x="0" y="17640"/>
            <a:ext cx="399564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ТОЧ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ЁТА ИНДИВИДУАЛЬНЫХ ДОЗ ВНЕШНЕГО ОБЛУЧЕНИЯ ЛИЦ, РАБОТАЮЩИХ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ИСТОЧНИКАМИ ИОНИЗИРУЮЩИХ ИЗЛУЧЕНИЙ (ИИИ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Наименование организации: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енное учреждение здравоохранения «Гомельская центральная городская поликлиника», филиал № 2, ул. Бочкина, 182а, 246034,г. Гомель, тел. (0232) 42 10 27, 42 66 84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Фамилия, имя, отчество: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нова Маргарита Александ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Год рождения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07.07.1978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ол: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Место работы: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нтгенологическое отделение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Должность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рентгенолаборан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Стаж работы с ИИ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1. В данной организации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с 01.06.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2. Общий стаж работы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1 год и 5 месяцев,  1 мЗ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Домашний адрес, телефон: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. Владимирова д. 3, кв. 40,  246034, г. Гомель, тел. (0232) 42 73 8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Условия работы: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йства, генерирующие ионизирующее излучение (стационарные рентгено-диагностические аппараты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Тип дозиметра: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молюминесцентные дозиметры типа 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ПГ, ДТЛ, ДТ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Данные о дозах облучения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924360" y="27000"/>
          <a:ext cx="5111640" cy="6649920"/>
        </p:xfrm>
        <a:graphic>
          <a:graphicData uri="http://schemas.openxmlformats.org/drawingml/2006/table">
            <a:tbl>
              <a:tblPr/>
              <a:tblGrid>
                <a:gridCol w="1162080"/>
                <a:gridCol w="865080"/>
                <a:gridCol w="647640"/>
                <a:gridCol w="646200"/>
                <a:gridCol w="647640"/>
                <a:gridCol w="646200"/>
                <a:gridCol w="496800"/>
              </a:tblGrid>
              <a:tr h="159120">
                <a:tc rowSpan="2"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яц, квартал,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то расположения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зимет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за, мЗ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4 г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 г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 г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 г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ерхность нижней части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ласти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вот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кварта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д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V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ерхность нижней части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ласти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вот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кварта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д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I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ерхность нижней части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ласти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вот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II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кварта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д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ерхность нижней части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ласти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вот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II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V 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варта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д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 год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д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 rowSpan="2"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рная доза облучения на 01.01.20__г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01.01.20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01.01. 20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01.01. 20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01.01. 20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01.01. 20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01.01. 20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8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ководитель организации (фамилия, имя, отчество подпись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митриева Н.В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митриева Н.В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митриева Н.В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митриева Н.В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й за радиационный контроль (фамилия, имя, отчество, подпись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цева О.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цева О.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цева О.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цева О.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837000"/>
            <a:ext cx="792792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Приказ Министерства здравоохранения Республики Беларусь от 19.06.2017 № 668 «Об утверждении порядка регистрации и контроля доз облучения персонала, аварийных работников и населения в рамках Единой государственной системы контроля и учета индивидуальных доз облучения»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539640" y="3213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Информационная карта «Сведения о дозах облучения персонала в условиях нормальной эксплуатации техногенных источников ионизирующего излучения» представляют организации, использующие источники ионизирующих излучен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539640" y="443700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Информационная карта «Сведения о дозах облучения аварийных работников, лиц, принимающих первые ответные меры в случае ядерных или радиационных аварий, персонала и населения в условиях радиационной аварии» представляют организации, использующие источники ионизирующих излуч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6"/>
          <p:cNvSpPr/>
          <p:nvPr/>
        </p:nvSpPr>
        <p:spPr>
          <a:xfrm>
            <a:off x="2916360" y="23508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ОННАЯ КАР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187280" y="619200"/>
          <a:ext cx="6769440" cy="938160"/>
        </p:xfrm>
        <a:graphic>
          <a:graphicData uri="http://schemas.openxmlformats.org/drawingml/2006/table">
            <a:tbl>
              <a:tblPr/>
              <a:tblGrid>
                <a:gridCol w="6769440"/>
              </a:tblGrid>
              <a:tr h="93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еде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 дозах облучения персонала в условиях нормальной эксплуатации техногенных источников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онизирующего излучения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 (на)_______________________ 20 ___ г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179280" y="1817640"/>
          <a:ext cx="7417080" cy="2619360"/>
        </p:xfrm>
        <a:graphic>
          <a:graphicData uri="http://schemas.openxmlformats.org/drawingml/2006/table">
            <a:tbl>
              <a:tblPr/>
              <a:tblGrid>
                <a:gridCol w="3413160"/>
                <a:gridCol w="2857680"/>
                <a:gridCol w="1146240"/>
              </a:tblGrid>
              <a:tr h="53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то представляет све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у представляются све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став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5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, использующие источники ионизирующих излучени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ые центры гигиены, эпидемиологии и общественного здоровья, Минский городской центр гигиены и эпидемиологии - сводные статистические данны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ластным центрам гигиены, эпидемиологии и общественного здоровья, Минскому городскому центру гигиены и эпидемиоло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ому учреждению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«Республиканский научно-практический центр радиационной медицины и экологии человека» (Государственный дозиметрический регистр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р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 апре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7812000" y="1773360"/>
          <a:ext cx="1081080" cy="30960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309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ич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ставле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7812000" y="2492280"/>
          <a:ext cx="1081080" cy="21924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 marL="146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ова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79280" y="4581360"/>
          <a:ext cx="8785440" cy="123516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123516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6332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отчитывающейся организации (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наименование в соответствии с уставом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_________________________________________________________________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6332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_________________________________________________________________________________________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6332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вышестоящей организации_____________________________________________________________________________________________________________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6332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_________________________________________________________________________________________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6332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 управления (министерство, комитет, другой орган управления)_____________________________________________________________________________________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6332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_________________________________________________________________________________________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6332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чтовый адрес___________________________________________________________________________________________________________________________________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6332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_________________________________________________________________________________________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36332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08000" y="476280"/>
            <a:ext cx="120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00080" y="260280"/>
          <a:ext cx="8856720" cy="3813120"/>
        </p:xfrm>
        <a:graphic>
          <a:graphicData uri="http://schemas.openxmlformats.org/drawingml/2006/table">
            <a:tbl>
              <a:tblPr/>
              <a:tblGrid>
                <a:gridCol w="585720"/>
                <a:gridCol w="779400"/>
                <a:gridCol w="584280"/>
                <a:gridCol w="488880"/>
                <a:gridCol w="730440"/>
                <a:gridCol w="718920"/>
                <a:gridCol w="728640"/>
                <a:gridCol w="652680"/>
                <a:gridCol w="583920"/>
                <a:gridCol w="586080"/>
                <a:gridCol w="585720"/>
                <a:gridCol w="903240"/>
                <a:gridCol w="808200"/>
                <a:gridCol w="120600"/>
              </a:tblGrid>
              <a:tr h="46512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милия, имя, отчест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т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жде-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нимае-мая долж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тегория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н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разде-ле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чни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онизирующ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луче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ффективная доза,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Зв/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вивалентная доза, мЗв/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дио-нуклид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 внеш-него облуче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 внутреннего облуче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ь тел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 устройст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2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95280" y="4437000"/>
          <a:ext cx="8561520" cy="1440000"/>
        </p:xfrm>
        <a:graphic>
          <a:graphicData uri="http://schemas.openxmlformats.org/drawingml/2006/table">
            <a:tbl>
              <a:tblPr/>
              <a:tblGrid>
                <a:gridCol w="3059280"/>
                <a:gridCol w="1328400"/>
                <a:gridCol w="1114560"/>
                <a:gridCol w="3059280"/>
              </a:tblGrid>
              <a:tr h="155160">
                <a:tc gridSpan="3" row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ководитель организации      ____________________________________             ________________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Ф.И.О)                                                   (подпись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жностное лицо, ответственное за составление от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______________________           ________________              _______________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должность)                                   (Ф.И.О.)                               (подпись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______________________________         “_______”________________________200__г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номер контактного телефона)                                          (дата составления отчета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"/>
          <p:cNvPicPr/>
          <p:nvPr/>
        </p:nvPicPr>
        <p:blipFill>
          <a:blip r:embed="rId1"/>
          <a:stretch/>
        </p:blipFill>
        <p:spPr>
          <a:xfrm>
            <a:off x="395280" y="1440"/>
            <a:ext cx="8317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1042920" y="1066680"/>
          <a:ext cx="5143680" cy="263520"/>
        </p:xfrm>
        <a:graphic>
          <a:graphicData uri="http://schemas.openxmlformats.org/drawingml/2006/table">
            <a:tbl>
              <a:tblPr/>
              <a:tblGrid>
                <a:gridCol w="5143680"/>
              </a:tblGrid>
              <a:tr h="263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ДОМСТВЕННАЯ   ОТЧЕТНОСТ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042920" y="1384200"/>
          <a:ext cx="5613480" cy="1324080"/>
        </p:xfrm>
        <a:graphic>
          <a:graphicData uri="http://schemas.openxmlformats.org/drawingml/2006/table">
            <a:tbl>
              <a:tblPr/>
              <a:tblGrid>
                <a:gridCol w="5613480"/>
              </a:tblGrid>
              <a:tr h="1324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ЕДЕ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нтгенологических, радионуклидных исследованиях, лучевой терапии и дозах облучения пациентов, полученных при проведении медицинских процедур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 20 ___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1042920" y="2797200"/>
          <a:ext cx="5613480" cy="200160"/>
        </p:xfrm>
        <a:graphic>
          <a:graphicData uri="http://schemas.openxmlformats.org/drawingml/2006/table">
            <a:tbl>
              <a:tblPr/>
              <a:tblGrid>
                <a:gridCol w="5613480"/>
              </a:tblGrid>
              <a:tr h="200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ОСТАВЛЯЕТСЯ В ЭЛЕКТРОННОМ ВИД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611280" y="3102120"/>
          <a:ext cx="8281800" cy="3159000"/>
        </p:xfrm>
        <a:graphic>
          <a:graphicData uri="http://schemas.openxmlformats.org/drawingml/2006/table">
            <a:tbl>
              <a:tblPr/>
              <a:tblGrid>
                <a:gridCol w="3175920"/>
                <a:gridCol w="2639160"/>
                <a:gridCol w="1058760"/>
                <a:gridCol w="151920"/>
                <a:gridCol w="1256040"/>
              </a:tblGrid>
              <a:tr h="6346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то предоставляет отче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у предоставляется отче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 предоставле-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ич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остав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 rowSpan="3">
                  <a:txBody>
                    <a:bodyPr lIns="57960" rIns="57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ицинские учреждения, использующие источники ионизирующего излучения в медицинских целях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ые центры гигиены, эпидемиологии и общественного здоровья, Минский городской центр гигиены и эпидемиологии - сводные статистические данны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ластным центрам гигиены, эпидемиологии и общественного здоровья , Минскому городскому центру гигиены и эпидемиоло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ому учреждению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«Республиканский научно-практический центр радиационной медицины и экологии человека» (Государственный дозиметрический регистр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 февра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 мар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marL="146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ов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611280" y="6308640"/>
          <a:ext cx="8281800" cy="561960"/>
        </p:xfrm>
        <a:graphic>
          <a:graphicData uri="http://schemas.openxmlformats.org/drawingml/2006/table">
            <a:tbl>
              <a:tblPr/>
              <a:tblGrid>
                <a:gridCol w="8281800"/>
              </a:tblGrid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36332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отчитывающейся организации  (заполняет организация, которая предоставляет отчет) 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36332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____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________________________________________________________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36332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1"/>
          <p:cNvSpPr/>
          <p:nvPr/>
        </p:nvSpPr>
        <p:spPr>
          <a:xfrm>
            <a:off x="6294600" y="84240"/>
            <a:ext cx="284940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633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1036332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ложение 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1036332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риказ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1036332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стерства здравоохран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1036332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публики Беларус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1036332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.11.2016 г. № 119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6332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1"/>
          <p:cNvSpPr/>
          <p:nvPr/>
        </p:nvSpPr>
        <p:spPr>
          <a:xfrm>
            <a:off x="684360" y="130320"/>
            <a:ext cx="77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  <a:ea typeface="Arial"/>
              </a:rPr>
              <a:t>РАЗДЕЛ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  <a:ea typeface="Arial"/>
              </a:rPr>
              <a:t>РЕНТГЕНОДИАГНОСТИЧЕСКИЕ ИССЛЕД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24000" y="1125360"/>
          <a:ext cx="8569080" cy="2168640"/>
        </p:xfrm>
        <a:graphic>
          <a:graphicData uri="http://schemas.openxmlformats.org/drawingml/2006/table">
            <a:tbl>
              <a:tblPr/>
              <a:tblGrid>
                <a:gridCol w="1898640"/>
                <a:gridCol w="1035000"/>
                <a:gridCol w="2162160"/>
                <a:gridCol w="1697040"/>
                <a:gridCol w="1776240"/>
              </a:tblGrid>
              <a:tr h="173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Наименование показа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Номер стр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Число лиц, прошедших рентгено-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диагностическое исследование, челове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Количество исследований, едини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Коллективные дозы пациентов по видам исследований, чел.-Зв/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Прямоугольник 4"/>
          <p:cNvSpPr/>
          <p:nvPr/>
        </p:nvSpPr>
        <p:spPr>
          <a:xfrm>
            <a:off x="684360" y="3446640"/>
            <a:ext cx="77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  <a:ea typeface="Arial"/>
              </a:rPr>
              <a:t>РАЗДЕЛ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  <a:ea typeface="Arial"/>
              </a:rPr>
              <a:t>РАДИОНУКЛИДНЫЕ ИССЛЕД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4154400"/>
          <a:ext cx="8496000" cy="1887480"/>
        </p:xfrm>
        <a:graphic>
          <a:graphicData uri="http://schemas.openxmlformats.org/drawingml/2006/table">
            <a:tbl>
              <a:tblPr/>
              <a:tblGrid>
                <a:gridCol w="1803240"/>
                <a:gridCol w="1185840"/>
                <a:gridCol w="1906560"/>
                <a:gridCol w="1712880"/>
                <a:gridCol w="1887480"/>
              </a:tblGrid>
              <a:tr h="173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Наименование показа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Номер стр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Число лиц, прошедших исследование, челове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Количество исследований, едини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Коллективные дозы пациентов по видам исследований, чел.-Зв/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611280" y="92088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  <a:ea typeface="Arial"/>
              </a:rPr>
              <a:t>РАЗДЕЛ 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I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  <a:ea typeface="Arial"/>
              </a:rPr>
              <a:t>ЛУЧЕВАЯ ТЕРАП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68360" y="2060640"/>
          <a:ext cx="8426520" cy="2270160"/>
        </p:xfrm>
        <a:graphic>
          <a:graphicData uri="http://schemas.openxmlformats.org/drawingml/2006/table">
            <a:tbl>
              <a:tblPr/>
              <a:tblGrid>
                <a:gridCol w="1800000"/>
                <a:gridCol w="1086120"/>
                <a:gridCol w="2170080"/>
                <a:gridCol w="1569960"/>
                <a:gridCol w="1800360"/>
              </a:tblGrid>
              <a:tr h="1738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Наименование показа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Номер стр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Число лиц, прошедших лучевую терапию, челове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Количество процедур, едини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Коллективные дозы пациентов по видам процедур, чел.-Зв/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Garamond"/>
              </a:rPr>
              <a:t>Спасибо за вним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Закон Республики Беларусь от 05 января 1998г. № 122-З «О радиационной безопасности населения»</a:t>
            </a:r>
            <a:br>
              <a:rPr sz="3200"/>
            </a:br>
            <a:br>
              <a:rPr sz="40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9212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я 6</a:t>
            </a:r>
            <a:r>
              <a:rPr b="1" lang="ru-RU" sz="19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Компетенция государственных органов и организаций в области обеспечения радиационной безопасности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стерство здравоохранения Республики Беларусь в области обеспечения             радиационной безопасности в пределах своей компетенции: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здает единую государственную систему контроля и учета индивидуальных доз облучения населения и обеспечивает ее функционирование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я 16. Контроль и учет индивидуальных доз облучения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 и учет индивидуальных доз облучения, полученных гражданами при использовании источников ионизирующего излучения, медицинском облучении, а также доз, обусловленных естественным радиационным и техногенно измененным радиационным фоном, осуществляются в рамках единой государственной системы контроля и учета индивидуальных доз облучения, создаваемой и ведущейся в порядке, определяемом Советом Министров Республики Беларус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1677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Совета Министров Республики Беларусь от 17.06.1999 №929 «О единой государственной системе контроля и учета индивидуальных доз облучения» в редакции Постановления Совета Министров Республики Беларусь от 27.12.2007 №1840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1677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т Министров Республики Беларусь ПОСТАНОВЛЯЕТ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677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Внести в постановление Совета Министров Республики Беларусь от 17 июня 1999 г. № 929 «О единой государственной системе контроля и учета индивидуальных доз облучения» (Национальный реестр правовых актов Республики Беларусь, 1999 г., № 49, 5/1114) следующие изменения и дополнения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677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 пункт 3 изложить в следующей редакци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677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3. Республиканским органам государственного управления, местным исполнительным и распорядительным органам, юридическим лицам независимо от формы собственности организовать контроль и учет индивидуальных доз облучения и в установленном порядке передавать информацию в региональные центры контроля и учета индивидуальных доз облучения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677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5e5ff"/>
                </a:solidFill>
                <a:latin typeface="Garamond"/>
              </a:rPr>
              <a:t>Структурно система состоит из трех уровней:</a:t>
            </a:r>
            <a:br>
              <a:rPr sz="2200"/>
            </a:b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234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 первому уровню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носятся службы организаций, которые непосредственно получают информацию о дозах облучения граждан. Задача этого уровня – получение и первичный учет информации по индивидуальным дозам облучения граждан и передача ее на следующий уровень в соответствии с регламентом об информационном обмене в единой государственной системе контроля и учета индивидуальных доз облуче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о второму уровню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носятся центры учета и контроля доз облучения, создаваемые местными исполнительными и распорядительными органами на базе областных и Минского городского центров гигиены и эпидемиологии и общественного здоровья Министерства здравоохранения, которые осуществляют сбор, обобщение, первичную обработку и передачу в государственный дозиметрический регистр информации об индивидуальных дозах облучения работников (персонала) и населе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 третьему уровню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носится специализированное учреждение Министерства здравоохранения, на базе которого создается государственный дозиметрический регистр (ГУ «РНПЦ РМ и ЭЧ»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Объектами контроля и учета доз облучения являются лиц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ющие с источниками ионизирующего излучени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ергающиеся медицинскому облучению в целях диагностики и (или) лечения заболеваний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живающие на территориях, где по результатам радиационно-гигиенической паспортизации годовая эффективная доза за счет естественного фона может превышать 2 мЗ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живающие на территориях, где по результатам радиационно-гигиенической паспортизации годовая эффективная доза за счет техногенно измененного фона может превышать 1 мЗ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лежащие внесению в специальные государственные медицинские регист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нитарные нормы и правила «Требования к обеспечению радиационной безопасности персонала и населения при осуществлении деятельности по  использованию атомной энергии и источников ионизирующего излучения», утвержденные постановлением Министерства здравоохранения Республики Беларусь от 31.12.2013 № 137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нкт 193. Карточка учета индивидуальных доз внешнего облучения лиц, работающих с ИИИ (далее – индивидуальная карточка персонала) должна быть заведена нанимателем на каждого сотрудника, относящегося к категории персонал. Форма индивидуальной карточки персонала приведена в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приложении 9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 настоящим Санитарным нормам и правила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399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видуальная доза облучения должна регистрироваться в журнале учета индивидуальных доз внешнего облучения лиц, работающих с ИИИ с последующим внесением в индивидуальную карточку персонал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пия индивидуальной карточки персонала в случае его перевода в другую организацию, где проводится работа с ИИИ, должна передаваться на новое место работы; в случае прекращения трудовых отношений - выдаваться на руки сотруднику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гинал индивидуальной  карточки персонала должен храниться у нанимателя, который ее оформил. Индивидуальные карточки персонала должны храниться в бумажном виде и в виде электронной базы данны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Rectangle 219"/>
          <p:cNvSpPr/>
          <p:nvPr/>
        </p:nvSpPr>
        <p:spPr>
          <a:xfrm>
            <a:off x="-4329000" y="44758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220"/>
          <p:cNvSpPr/>
          <p:nvPr/>
        </p:nvSpPr>
        <p:spPr>
          <a:xfrm>
            <a:off x="-4330800" y="4957920"/>
            <a:ext cx="30178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3"/>
          <p:cNvSpPr/>
          <p:nvPr/>
        </p:nvSpPr>
        <p:spPr>
          <a:xfrm>
            <a:off x="539640" y="0"/>
            <a:ext cx="7777440" cy="10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49640">
              <a:lnSpc>
                <a:spcPts val="1397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49640" algn="ct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  <a:ea typeface="MS Mincho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49640" algn="ctr">
              <a:lnSpc>
                <a:spcPts val="1397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  <a:ea typeface="MS Mincho"/>
              </a:rPr>
              <a:t>КАРТОЧКА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49640" algn="ctr">
              <a:lnSpc>
                <a:spcPts val="1397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  <a:ea typeface="MS Mincho"/>
              </a:rPr>
              <a:t>учета индивидуальных доз внешнего облучения лиц, работающих с источниками ионизирующих излучений (ИИИ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496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496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MS Mincho"/>
              </a:rPr>
              <a:t>1. Наименование организации  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49640" algn="ct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(наименование, адрес, телефон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496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MS Mincho"/>
              </a:rPr>
              <a:t>2. Фамилия, имя, отчество  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496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MS Mincho"/>
              </a:rPr>
              <a:t>3. Год рождения 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496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MS Mincho"/>
              </a:rPr>
              <a:t>4. Пол  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496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MS Mincho"/>
              </a:rPr>
              <a:t>5. Место работы 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49640" algn="ct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(цех, отделение, участок, лаборатория и пр.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496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MS Mincho"/>
              </a:rPr>
              <a:t>6. Должность  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496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MS Mincho"/>
              </a:rPr>
              <a:t>7. Стаж работы с ИИ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496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MS Mincho"/>
              </a:rPr>
              <a:t>7.1. в данной организации 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49640" algn="ct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(начало работы в учреждении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496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MS Mincho"/>
              </a:rPr>
              <a:t>7.2. общий стаж работы 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49640" algn="ct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         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(до работы в данном учреждении и полученная суммарная доза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496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MS Mincho"/>
              </a:rPr>
              <a:t>8. Домашний адрес, телефон 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496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MS Mincho"/>
              </a:rPr>
              <a:t>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496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MS Mincho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496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MS Mincho"/>
              </a:rPr>
              <a:t>9. Условия работы 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496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MS Mincho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496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MS Mincho"/>
              </a:rPr>
              <a:t>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49640" algn="ct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(вид и характер работы, радионуклид, открытые и закрытые ИИИ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49640" algn="just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_______________________________________________________________________________________________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49640" algn="ct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класс работ, агрегатное состояние радиоактивного вещества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496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MS Mincho"/>
              </a:rPr>
              <a:t>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49640" algn="ct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максимально допустимая одноразовая активность на рабочем месте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496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MS Mincho"/>
              </a:rPr>
              <a:t>10. Тип дозиметра 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496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4964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MS Mincho"/>
              </a:rPr>
              <a:t>11. Данные о дозах облуч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8360" y="54000"/>
          <a:ext cx="8207280" cy="6543720"/>
        </p:xfrm>
        <a:graphic>
          <a:graphicData uri="http://schemas.openxmlformats.org/drawingml/2006/table">
            <a:tbl>
              <a:tblPr/>
              <a:tblGrid>
                <a:gridCol w="1492200"/>
                <a:gridCol w="1730520"/>
                <a:gridCol w="996840"/>
                <a:gridCol w="996840"/>
                <a:gridCol w="997200"/>
                <a:gridCol w="996840"/>
                <a:gridCol w="996840"/>
              </a:tblGrid>
              <a:tr h="218520">
                <a:tc rowSpan="2"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Месяц, квартал, время экспози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Место расположения дозимет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Доза, мЗ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20___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20___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20___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20___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20___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I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I кварта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I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V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II кварта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V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V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I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III кварта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X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X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880"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IV кварта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За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Суммарная доза облучения на 01.01.20__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Руководитель организации (фамилия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имя, отчество, подпись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Ответствен-ный за радиа-ционный контроль (фамилия, имя, отчество, подпись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3"/>
          <p:cNvSpPr/>
          <p:nvPr/>
        </p:nvSpPr>
        <p:spPr>
          <a:xfrm>
            <a:off x="0" y="17640"/>
            <a:ext cx="399564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ТОЧ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ЁТА ИНДИВИДУАЛЬНЫХ ДОЗ ВНЕШНЕГО ОБЛУЧЕНИЯ ЛИЦ, РАБОТАЮЩИХ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ИСТОЧНИКАМИ ИОНИЗИРУЮЩИХ ИЗЛУЧЕНИЙ (ИИИ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Наименование организации: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енное учреждение здравоохранения «Гомельская центральная городская поликлиника», филиал № 2, ул. Бочкина, 182а, 246034, г.Гомель, тел. (0232) 42 10 27, 42 66 84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Фамилия, имя, отчество: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нова Маргарита Александ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Год рождения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07.07.1978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ол: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Место работы: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нтгенологическое отделение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Должность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рентгенолаборан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Стаж работы с ИИ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1. В данной организации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с 01.06.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2. Общий стаж работы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Домашний адрес, телефон: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. Владимирова д. 3, кв. 40,  246034, г. Гомель, тел. (0232) 42 73 8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Условия работы: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йства, генерирующие ионизирующее излучение (стационарные рентгенодиагностические аппараты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Тип дозиметра: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молюминесцентные дозиметры типа 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ПГ, ДТЛ, ДТ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Данные о дозах облучения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995640" y="95400"/>
          <a:ext cx="5040360" cy="6891120"/>
        </p:xfrm>
        <a:graphic>
          <a:graphicData uri="http://schemas.openxmlformats.org/drawingml/2006/table">
            <a:tbl>
              <a:tblPr/>
              <a:tblGrid>
                <a:gridCol w="997200"/>
                <a:gridCol w="911160"/>
                <a:gridCol w="681120"/>
                <a:gridCol w="680760"/>
                <a:gridCol w="682560"/>
                <a:gridCol w="681120"/>
                <a:gridCol w="406440"/>
              </a:tblGrid>
              <a:tr h="181080">
                <a:tc rowSpan="2"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яц, квартал,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то расположения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зимет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за, мЗ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4 г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 г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 г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 г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920" rIns="25920" tIns="57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ерхность нижней части области живот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кварта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д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V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920" rIns="25920" tIns="57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ерхность нижней части области живот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кварта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д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I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920" rIns="25920" tIns="57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ерхность нижней части области живот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II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кварта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д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920" rIns="25920" tIns="57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ерхность нижней части области живот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II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V 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варта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д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 год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д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 rowSpan="2"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рная доза облучения на 01.01.20__г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01.01.20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01.01. 20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01.01. 20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01.01. 20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01.01. 20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01.01. 20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8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ководитель организации (фамилия, имя, отчество подпись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митриева Н.В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митриева Н.В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митриева Н.В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митриева Н.В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й за радиационный контроль (фамилия, имя, отчество, подпись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цева О.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цева О.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цева О.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цева О.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7:20:46Z</dcterms:created>
  <dc:creator>S Dubinin</dc:creator>
  <dc:description/>
  <dc:language>en-US</dc:language>
  <cp:lastModifiedBy>ProBook_4710s</cp:lastModifiedBy>
  <cp:lastPrinted>2017-11-13T14:07:22Z</cp:lastPrinted>
  <dcterms:modified xsi:type="dcterms:W3CDTF">2017-11-21T09:04:10Z</dcterms:modified>
  <cp:revision>188</cp:revision>
  <dc:subject/>
  <dc:title>Слайд 1</dc:title>
</cp:coreProperties>
</file>